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EE0-9B85-4300-B05E-2C98A473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06E-5DE4-49E3-8DFF-E233FD6C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3CC3-CCD9-48A3-9929-A3958330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51E-C015-494F-8815-1067C4AB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AC9-9221-47B2-9D73-B6028952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0B5D-ED34-4594-BED8-DDC23818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36C2-489C-480F-AD8A-9FDC8467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B1BE-DB9F-4509-BFA3-AF44F52D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6BC-1BBD-4366-8952-0716AAF6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247-2630-4CCB-AC01-E9F3F884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3B6-A6C4-4DB6-9434-84F82348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0D3-1F5B-4630-A17D-A2E499A9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F22D-D9A1-4C49-A2F9-7EA01F64BE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305920" y="6019920"/>
            <a:ext cx="704880" cy="704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ata Stewardship at the NOAA Data Cent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685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b Topic - Value Added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1764000" y="5867280"/>
            <a:ext cx="54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IP Federation Meeting, Washington, D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anuary 6-8, 2009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Illustrate_Mar93"/>
          <p:cNvPicPr/>
          <p:nvPr/>
        </p:nvPicPr>
        <p:blipFill>
          <a:blip r:embed="rId3"/>
          <a:stretch/>
        </p:blipFill>
        <p:spPr>
          <a:xfrm>
            <a:off x="1143000" y="1371600"/>
            <a:ext cx="2666880" cy="369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Object 11"/>
          <p:cNvGraphicFramePr/>
          <p:nvPr/>
        </p:nvGraphicFramePr>
        <p:xfrm>
          <a:off x="4114800" y="4191120"/>
          <a:ext cx="3672000" cy="1676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8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4800" y="4191120"/>
                    <a:ext cx="367200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Picture 5" descr=""/>
          <p:cNvPicPr/>
          <p:nvPr/>
        </p:nvPicPr>
        <p:blipFill>
          <a:blip r:embed="rId6"/>
          <a:stretch/>
        </p:blipFill>
        <p:spPr>
          <a:xfrm>
            <a:off x="4114800" y="1371600"/>
            <a:ext cx="37339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mate, Oceans and Environmental Data Service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upport – Value Added Products </a:t>
            </a:r>
            <a:br>
              <a:rPr sz="32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Data Centers data holdings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= Several petabytes of environmental inform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rom Space and Earth based platform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Objective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- To make use of data integration and interoperability to deriv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ducts to support differing  themes and SBA’s 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ergy, Transportation, Bio Diversity, Climate Change, Severe Weather, etc.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e Challeng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ow do we organize these data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ow do customers get the data into a GIS or other formats?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verse Users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verse data types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ector, Tables, Raster / Grid ( GIS Speak 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oint, Trajectory, Time Series, Grid, Radial, Swath, etc…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mate, Oceans and Environmental Data Service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upport – Value Added 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ata Services IT Architecture Support (NCDC)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eospatial Relational Database  (Oracle Spatial / PostGIS / ArcSD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ion info, time series data, drought, SWDI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REDDS Data Serv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b Server that subsets multidimensional datasets (NetCDF, GRIB, etc…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del (NOMADS), Satellite Products (SST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ent Application (Weather and Climate Toolkit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ditional functionality – visualization and data export to common form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mate, Oceans and Environmental Data Service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upport – Value Added 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ata Services IT Architecture Support (NCDC)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tandards for interoperability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eospatial Relational Database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(Oracle Spatial / PostGIS / ArcSD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-210240">
              <a:spcBef>
                <a:spcPts val="550"/>
              </a:spcBef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Calibri"/>
              </a:rPr>
              <a:t>WMS, WFS, Custom REST XML Web Servic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HREDDS Data Server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-210240">
              <a:spcBef>
                <a:spcPts val="550"/>
              </a:spcBef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Calibri"/>
              </a:rPr>
              <a:t>WCS, OPeNDAP, NetCDF and XML REST Web Servic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ent Applic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-2102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onsume standards-based servic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-2102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F-compliant NetCDF + Common Data Mode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mate, Oceans and Environmental Data Service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upport – Value Added 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04920" y="1523880"/>
            <a:ext cx="868680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ne Type of Value Added Product Generation Web Service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evere Weather Data Inventory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eospatial database of weather phenomena represented as point, line or polyg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artnership with UNC-Asheville/NEMAC/RENCI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XRAD Level-III Storm Info, LSRs; Lightning,  Warnings, Storm Data, MPE Precip, HurSa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ST Web Service Access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earch based on location, data range, within area, etc…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tatistics – count, summarize by hour, day, month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utput types (csv, xml, kmz, Shapefile, GeoRSS)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mate, Oceans and Environmental Data Service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upport – Value Added Products </a:t>
            </a:r>
            <a:br>
              <a:rPr sz="32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20040" y="1371600"/>
            <a:ext cx="45226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ole of Private Sector vs. Public Sec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Level Playing Field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Distributed Data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rietary Information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892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4" descr="20041031-flooding-ge-2"/>
          <p:cNvPicPr/>
          <p:nvPr/>
        </p:nvPicPr>
        <p:blipFill>
          <a:blip r:embed="rId2"/>
          <a:stretch/>
        </p:blipFill>
        <p:spPr>
          <a:xfrm>
            <a:off x="457200" y="2971800"/>
            <a:ext cx="4011480" cy="258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3505320" y="4267080"/>
            <a:ext cx="34430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4:55:43Z</dcterms:created>
  <dc:creator>stephen.a.delgreco</dc:creator>
  <dc:description/>
  <dc:language>en-US</dc:language>
  <cp:lastModifiedBy> </cp:lastModifiedBy>
  <dcterms:modified xsi:type="dcterms:W3CDTF">2009-01-06T18:51:21Z</dcterms:modified>
  <cp:revision>44</cp:revision>
  <dc:subject/>
  <dc:title>Data Stewardship at the NOAA Data Centers</dc:title>
</cp:coreProperties>
</file>